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A5E-A006-4D40-A3CA-7589E616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FEC-EC6B-450B-8BE8-F3D6279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57E-F67F-4F5C-A8F3-0A8EAAA6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226-3D09-4F1F-9256-2A984A32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1C67-1934-467E-84EE-3202D54E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3640-65CA-4DF6-B426-90E7CA83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BA6-324C-4DA0-81E0-BE28926C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97DD-A210-4DA4-BC78-7CAEA574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A42-ED9F-4140-8F5E-7BF5B98A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B603-ACDD-4356-964D-F5D72D4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48E-7138-47EB-ADF4-00FCA048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A6D-F2AE-4B24-A6E9-96A31514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ED7-FC43-4A29-865D-B37BD9F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FFF1-263D-4583-8F63-2888B07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EC9-0141-45F5-ACDD-7A9C4E6A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741-2CAB-4B42-A7C6-70ED865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4286-A8E8-4D1A-AE51-4C55D4B8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319-0F9D-4D9F-82F5-3B8C7905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932-90F6-4B51-B5BB-EACF7B4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E8F-6ACD-4618-9410-1B34417B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CD6-11D1-49A2-8847-697D7527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91F-DFFC-4FE8-939D-FEE0303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B67-BC84-4EF3-A143-C237037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905-9976-4FBB-ABD2-EC407FA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D38-39C4-41BE-8408-B180D6037F1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9507-8F8D-4BD7-B16E-ECCD663961D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bible.gospelcom.net/bible?version=KJV&amp;passage=Ge+12:1-9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bible.gospelcom.net/bible?version=KJV&amp;passage=Ge+12:10-13:4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bible.gospelcom.net/bible?version=KJV&amp;passage=Ge+13:5-14:24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hyperlink" Target="http://bible.gospelcom.net/bible?version=KJV&amp;passage=Ge+15:1-17:27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bible.gospelcom.net/bible?version=KJV&amp;passage=Ge+15:1-6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bible.gospelcom.net/bible?version=KJV&amp;passage=Ge+15:7-21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bible.gospelcom.net/bible?version=KJV&amp;passage=Ge+16:1-16" TargetMode="External"/><Relationship Id="rId19" Type="http://schemas.openxmlformats.org/officeDocument/2006/relationships/image" Target="../media/image3.png"/><Relationship Id="rId20" Type="http://schemas.openxmlformats.org/officeDocument/2006/relationships/hyperlink" Target="http://bible.gospelcom.net/bible?version=KJV&amp;passage=Ge+17:1-14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bible.gospelcom.net/bible?version=KJV&amp;passage=Ge+17:15-27" TargetMode="External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sis 15-1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sson 1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842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ion – Gen.1-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odn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Tempter –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all of Man –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urses –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pread of Sin – 4-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lood – 6-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76920" y="1219320"/>
            <a:ext cx="246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ed -lin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10080" y="2057400"/>
            <a:ext cx="141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a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38680" y="281952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38680" y="3657600"/>
            <a:ext cx="12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a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638680" y="441972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689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vision of Nations By Families -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y God Divided Them – 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Call of Abram – 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Promis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eat N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lessing To A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81480" y="1219320"/>
            <a:ext cx="23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ed-lin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91320" y="213372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715000" y="2895480"/>
            <a:ext cx="1447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ra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38680" y="373392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bra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45720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571500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410080" y="541008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sus Chri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Promi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99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Great N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Bless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334120" y="990720"/>
            <a:ext cx="2295360" cy="297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505320" y="1828800"/>
            <a:ext cx="2743200" cy="380880"/>
          </a:xfrm>
          <a:prstGeom prst="rightArrow">
            <a:avLst>
              <a:gd name="adj1" fmla="val 50000"/>
              <a:gd name="adj2" fmla="val 18005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0481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5000" y="2666880"/>
            <a:ext cx="110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81480" y="4267080"/>
            <a:ext cx="17622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 Grea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alv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Promises to Abram – 1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bram's Migration into Canaan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xii. 1-9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bram Visits Egypt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xii. 10-xiii. 4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BRAM'S TROUBLES ON ACCOUNT OF LOT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xiii. 5-xiv. 24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Separation from Lot. xiii. 5-13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Lot Captured and Rescued. xiv. 1-16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n Interview with Melchizedek and the King of Sodom. 17-24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FFSPRING AND CIRCUMCISION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xv. 1-xvii. 27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1. Definite Promise of a Son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xv. 1-6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2. The Promise of Canaan Renewed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7-21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3. The Birth of Ishmael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xvi. 1-16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4. Circumcision Appointed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xvii. 1-14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5. Promise of a Son by Sarai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15-27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[14]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ames Chan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bram = father exalted; high fa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braham = father multitude; father of a great multitu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rai =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lady; my princ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rah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 lady; princess; princess of the multitu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rcumci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38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rsonal Sign In The Fles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 God’s Covenant With Abraham and His Descen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d bless our offspring for one of us will bless the whole wor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fter the blessing came, circumcision would be “nothing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15:18:52Z</dcterms:created>
  <dc:creator>Terry Benton</dc:creator>
  <dc:description/>
  <dc:language>en-US</dc:language>
  <cp:lastModifiedBy>Terry Benton</cp:lastModifiedBy>
  <dcterms:modified xsi:type="dcterms:W3CDTF">2004-08-07T18:58:08Z</dcterms:modified>
  <cp:revision>2</cp:revision>
  <dc:subject/>
  <dc:title>Genesis 15-17</dc:title>
</cp:coreProperties>
</file>